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223-DF70-43F6-938B-3DB76821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2D1-F9DC-44EC-8712-63554F25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F54-57F0-4D40-B9F1-DF306A84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1BF-92FD-4158-A932-D0859D0B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8058-BD9C-4065-8193-DBA5DA8C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7129-90B1-4BDC-866C-09C43C6C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70B2-12D2-4597-AA40-C42225A8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1EC4-1A69-4114-B536-3A5EC9D9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738-4515-4652-A689-CD221F15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92AF-B4D9-4B19-987A-3C08CD5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283D-4A82-429F-8B9E-CB54C82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CE5-AF53-44A1-89DE-F320C4A7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1DB-7E1C-41FD-A87D-C2629710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24D6-980A-4724-A2B1-A1CF40A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4059-BB69-430A-8B65-D649DDF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4992-E77F-4CEC-BF38-9339C8E3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466-9DE5-4C37-BA73-44760EFF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AEC-9A96-407A-B90A-3E32168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56F-6B22-4D16-9D0A-642BCBD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B24-1B49-47A7-915C-95FBABD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C58-DE0F-4E6D-B920-EB7B331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A13-9210-42BD-A483-9CE3170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464-D08F-4632-A851-DEB31503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B24-CE37-40C2-A2AA-8A0D925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D9B-3683-496F-8EDB-5A73E7E635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30E-0201-4FDC-BA15-36FCDB3C03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 ca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514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: Manoj Donepu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patio. Lo es muy lujoso, grande, y fabulos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piscina. Lo es muy bonita, y muy gran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d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thanks to the bui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ide made by Manoj Donepu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tures from Google im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91520" cy="4927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casa. Lo es muy grande, muy lujosa, y muy fantastic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comedor. Lo es muy bonita, grande, y magnifiso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457200"/>
            <a:ext cx="6934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cochina. Lo es moderna, lujosa, y muy estupend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cuarto. Lo es muy fabuloso, y grand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bano. Lo es moderno, grande, y muy faboloso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jardin. Lo es bonita, y lujos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e es mi garaje. Lo es muy grande, y epico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ta es mi sala. Lo es muy grande, y lujos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25Z</dcterms:created>
  <dc:creator>donepudiman</dc:creator>
  <dc:description/>
  <dc:language>en-US</dc:language>
  <cp:lastModifiedBy>donepudiman</cp:lastModifiedBy>
  <dcterms:modified xsi:type="dcterms:W3CDTF">2012-03-28T17:43:10Z</dcterms:modified>
  <cp:revision>4</cp:revision>
  <dc:subject/>
  <dc:title>Mi casa</dc:title>
</cp:coreProperties>
</file>